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61DCB-5720-47FB-AFB7-15D6E2124F5B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9E973-0E2E-4A4C-BF41-5C1ABC4EAAB5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3BDE07-29E6-40F5-B129-011CB768CFA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729E3E-524B-47A2-A4AD-E903AB832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B09F35-0EFB-441F-ADD0-B093AFE46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5FC33C-1755-4569-9D4B-B8DAE7B43B5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4C9F38-3D8E-41AD-985B-015C3DCC7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12D707-CCF9-4854-8743-050CEC6FF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E409E2-968A-4E11-B679-BA00C7F23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C74311-E8B9-4D08-A1CB-921B42AE4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99FBB3-C7E9-44C2-A7A6-668A606C7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499E79-A9B3-4839-A9FA-946AAF09B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E74968-B439-43FD-A8A4-B1950190E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BE949A-ED74-4EFF-9AD5-6EEA8852C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>
              <a:gd name="textAreaLeft" fmla="*/ 0 w 9156960"/>
              <a:gd name="textAreaRight" fmla="*/ 9156960 w 915696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2A626-93AF-4EF7-8C2E-FD467DA16B4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5600"/>
                  <a:gd name="textAreaBottom" fmla="*/ 346320 h 34560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000"/>
                  <a:gd name="textAreaBottom" fmla="*/ 360720 h 36000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00000" y="2276640"/>
            <a:ext cx="7632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25092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流动力学监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中心静脉压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VP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肺毛细血管楔压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CWP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输出量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O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和心脏指数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I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后穹隆穿刺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有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发病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无危及生命的紧急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者受伤或发病后的救治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患者及家属的情绪变化、心理承受能力及对治疗和预后的了解程度，并了解引起其不良情绪反应的原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迅速解决紧急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立刻安置患者于平卧位（非心源性休克可给予休克体位），血压稳定前禁止搬运患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开放气道，给予大流量吸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立刻建立静脉通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根据病因给予相应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初步容量复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补充血容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应用血管活性药物辅助扩容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纠正酸碱平衡失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改善微循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积极处理原发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控制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皮质类固醇使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防治并发症及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ODS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4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多发骨折伴休克，经扩容治疗后，神志未清醒，测血压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70/50mmH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9.3/6.7kP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，中心静脉压为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cmH</a:t>
            </a:r>
            <a:r>
              <a:rPr b="0" lang="en-US" sz="32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O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0.49kP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①该患者进一步的护理重点是什么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            ②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应如何监测患者病情变化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1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液不足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大量失血，失液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气体交换受损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微循环障碍、缺氧和呼吸型态改变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温异常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感染、组织灌注不足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有受伤的危险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微循环障碍、烦躁不安、意识不清、疲乏无力等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多器官功能障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监测病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压：收缩压＜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90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和（或）脉压差＜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0mmHg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脉率 ：脉率增快多出现在血压下降之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意识状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末梢循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监测病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量 ：尿量少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5ml/h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比重增加，表明血容量不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颈静脉和周围静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中心静脉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维持体液平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建立静脉通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补液种类：先晶体后胶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遵医嘱合理补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准确记录出入量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能复述休克的概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概述休克患者的临床表现和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休克辅助检查项目及意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休克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改善组织灌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取休克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使用抗休克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遵医嘱使用血管活性药物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维持正常体温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维持有效的气体交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密切观察病情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维持呼吸道通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改善缺氧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和防治感染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严格按照无菌技术原则执行各项护理操作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遵医嘱合理应用抗菌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防止误吸、窒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加强口腔护理和留置尿管的护理，预防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伤口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意外损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床单清洁、平整、干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压疮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避免患者将输液管道或引流管等拔出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继续原发疾病治疗或康复，加强对原发病观察，定期复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加强对引起休克疾病的预防，避免各种意外伤害的发生，学会受伤后的紧急救助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各种导致有效循环血量锐减、组织血液灌流不足的因素均可引起休克，外科最常见原因是低血容量性休克和感染性休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根据病情的发展分为休克代偿期和抑制期，可以通过一看（神志、表情、口渴情况、皮肤黏膜色泽、毛细胞血管充盈时间）、二摸（四肢浅静脉、脉搏、肢端温度）、三测（动脉收缩压、脉压）、四量（尿量）来监测休克的临床表现，还可通过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VP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、心排血量、动脉血气分析、动脉血乳酸盐含量等监测休克进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除休克外，应注意患者有无其他危及生命的情况需进行紧急救治，治疗中应尽早去除病因，迅速恢复有效循环血量，纠正微循环障碍，恢复组织灌注，增强心肌功能，防止脏器功能损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注意监测患者的血压、脉搏、微循环情况及血流动力学情况，尤其注意要迅速补充血容量，维持体液平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休克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hock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指机体受到强烈的致病因素侵袭后，导致有效循环血量锐减、组织血液灌流不足所引起的以微循环障碍、代谢障碍和细胞受损为特征的病理性综合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原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主要是失血、脱水、血浆丢失、严重创伤等，最常见的类型是低血容量性和感染性休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4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女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7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被汽车撞伤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钟后急诊入院。患者浅昏迷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 116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R 26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P 50/30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立即查血常规、血型，紧急配血，给予双通道静脉输入平衡盐、代血浆，静滴止血药物等处理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：左侧肩胛骨、肱骨头粉碎性骨折，左侧髂骨翼、髋臼及股骨粗隆间粉碎性骨折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床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检查：腹腔内无实质脏器破裂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颅脑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检查：未发现颅内血肿及脑挫裂伤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休克代偿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精神紧张，烦躁不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面色苍白，皮肤湿冷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脉搏增快，呼吸增快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压变化不大，但脉压缩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量正常或减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休克抑制期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表情淡漠、反应迟钝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皮肤黏膜发绀或花斑、四肢冰冷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脉搏细速，呼吸浅促，血压进行性下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量减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浅静脉萎陷，毛细血管充盈时间延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可出现代谢性酸中毒的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179280" y="1268280"/>
          <a:ext cx="8964720" cy="5220000"/>
        </p:xfrm>
        <a:graphic>
          <a:graphicData uri="http://schemas.openxmlformats.org/drawingml/2006/table">
            <a:tbl>
              <a:tblPr/>
              <a:tblGrid>
                <a:gridCol w="644760"/>
                <a:gridCol w="1442880"/>
                <a:gridCol w="2693880"/>
                <a:gridCol w="1843200"/>
                <a:gridCol w="2340000"/>
              </a:tblGrid>
              <a:tr h="24444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分期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休克代偿期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休克抑制期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480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程度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轻度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中度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重度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70632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神志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神志清楚，伴有痛苦的表情，精神紧张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神志尚清楚，表情淡漠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意识模糊，神志不清，昏迷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980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口渴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明显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很明显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非常明显，可能无主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9800"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皮肤黏膜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色泽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开始苍白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苍白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显著苍白，肢端发绀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0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温度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正常，发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发冷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厥冷（肢端更明显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980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脉搏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10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次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/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分以下，尚有力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10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12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次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/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分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速而细弱或摸不清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632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血压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收缩压正常或稍高，舒张压增高，脉压缩小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收缩压为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9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70mmHg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，脉压小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收缩压＜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70mmHg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或测不到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668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周围循环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正常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表浅静脉塌陷，毛细血管充盈迟缓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毛细血管充盈更迟缓，表浅静脉塌陷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444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尿量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正常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尿少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尿少或无尿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744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估计失血量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＜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％（＜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800ml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％～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4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％（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80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1600ml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＞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4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％（＞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1600ml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血、尿和粪便常规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血生化检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凝血功能检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动脉血气分析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动脉血乳酸盐测定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血浆电解质测定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胃肠黏膜内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pH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监测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微软用户</cp:lastModifiedBy>
  <dcterms:modified xsi:type="dcterms:W3CDTF">2015-08-11T03:28:06Z</dcterms:modified>
  <cp:revision>96</cp:revision>
  <dc:subject/>
  <dc:title>内科护理学</dc:title>
</cp:coreProperties>
</file>